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440-8536-4812-B82D-01C0024C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0B4-8D7B-4714-8B23-2898CD8C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C9C-AC8F-4EEC-8BFC-7927075D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E4B-9671-4A85-AE88-C2382338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6AB-6E62-40A6-87B8-FE13736A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591-AEEC-48DD-86F3-38B8D90C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D81-5B81-407F-800C-E00422CC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09C-33F1-4C8A-B827-B89D35B9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BF5-59BC-483F-BA91-F24756A5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B18-4765-46E4-B42B-9FEA1C52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526-0805-4967-9FB3-DB939358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060-6AE2-4F42-9078-A8FD4582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DE2C-F468-465D-9318-FCBD42099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egonlive.com/portland/index.ssf/2010/08/multnomah_county_seeks_new_lan.html" TargetMode="External"/><Relationship Id="rId2" Type="http://schemas.openxmlformats.org/officeDocument/2006/relationships/hyperlink" Target="http://www.oregonlive.com/pacific-northwest-news/index.ssf/2010/08/winds_push_central_oregon_wildfire_to_2650_acres_evacuations_encouraged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alphaModFix amt="39000"/>
          </a:blip>
          <a:srcRect l="4673" t="20995" r="11675" b="19704"/>
          <a:stretch/>
        </p:blipFill>
        <p:spPr>
          <a:xfrm>
            <a:off x="4680" y="0"/>
            <a:ext cx="9128160" cy="6765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741240"/>
            <a:ext cx="8686800" cy="607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You are an ace reporter at your high school newspaper who just got a big assignmen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You editor sends you to the scene of the 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The cafeteri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029200"/>
            <a:ext cx="458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2240" y="5218200"/>
            <a:ext cx="5349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60680" y="4191120"/>
            <a:ext cx="7026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1680" y="2286000"/>
            <a:ext cx="6520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What do you d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alphaModFix amt="39000"/>
          </a:blip>
          <a:srcRect l="4673" t="20995" r="11675" b="28969"/>
          <a:stretch/>
        </p:blipFill>
        <p:spPr>
          <a:xfrm>
            <a:off x="0" y="0"/>
            <a:ext cx="9232920" cy="670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70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In the school cafeteria, where the votes for the school election have been tallied, one class president candidate is claiming that voter fraud has occurr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Arial"/>
              </a:rPr>
              <a:t>What do you do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rvey the scene – What do you see? What details do you notice? What do you h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o is on scene you can talk t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fficials, witness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should you ask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details do you need to make sense of the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Five W’s, one 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or accurate, unbiased report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ave your opinion out of the story. Include only cited facts and details and quotes from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ources must be identified in the article and quotes must be word fo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n’t rely on one source. Talk to multiple people to get all sides of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uble check your facts. If you aren’t sure, call your sourc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real lif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regonlive.com/portland/index.ssf/2010/08/multnomah_county_seeks_new_la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regonlive.com/pacific-northwest-news/index.ssf/2010/08/winds_push_central_oregon_wildfire_to_2650_acres_evacuations_encouraged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Take a look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sources are 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e all sides repres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e all the questions answered? Any holes? What else do you want to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03:55:13Z</dcterms:created>
  <dc:creator> </dc:creator>
  <dc:description/>
  <dc:language>en-US</dc:language>
  <cp:lastModifiedBy> </cp:lastModifiedBy>
  <dcterms:modified xsi:type="dcterms:W3CDTF">2010-08-11T03:45:14Z</dcterms:modified>
  <cp:revision>9</cp:revision>
  <dc:subject/>
  <dc:title>You arrive on the scene</dc:title>
</cp:coreProperties>
</file>